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9EEB-F687-498B-9E33-CD65D0A5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9EF-D6CC-4088-97DF-F3AE2DB9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4916C-A334-4DAD-9F58-EF11DB39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5969A-5B3D-48D1-8B41-F176CC41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5A41B-0203-4929-93A8-AFD8AA47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297AC-677F-4718-B409-CC36B216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F00874-9DB2-4425-BD5B-84C8E65E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FCAA7-64C1-4F57-87AE-83BE2FEC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F73BD-D590-44AB-8F12-CAE89F7A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77798-D6A6-4278-B919-E2FBA93B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0C705-E7C5-4B26-A96B-CAA335EC7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1AF64-13FF-443F-8501-52F00BF4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BC97-E0BE-46AD-9179-76953173F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6AAAD-3662-4DD0-879F-69433BD1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EAF61-073F-43A2-AE78-07E22235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221AE-8CCA-4DD9-8A54-D702D092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3DB61-0B1D-4650-A02D-CC9C93F4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351013-CD96-4640-AD20-153789EF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1B855-9568-4866-A016-647967BD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E9C4D-E9AC-45D7-BDD0-E0821065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E637FA-0D44-47EA-84B5-2C661248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F1F517-A76D-4351-BC2E-05C7F6D60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622B1-95DA-4F17-B73A-EEAA319F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BAD-5DCF-47D6-B8C1-14AC53C56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9726E-EF8A-48CE-9644-3F01AEE4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05D7F-D996-4E00-82B4-18A78AB7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CC2FB-1DB2-470E-91D6-B10E99E3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FA45E-4E45-49BF-A52B-BD72ECEC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913AC-6444-47E5-B73B-363FE8D9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C94AD-3DEF-4024-9346-B2F4E771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42A74-F10A-417A-870F-9286F916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7E697-B3DB-48BE-8728-A04D3AFE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F8440-7F50-4F98-BB69-A2D5FB48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58B461-F84B-4D43-9F49-FFE07C40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4BF-091B-4CDE-B8AE-FACF62BDE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AD75E-A00F-4F11-9AFE-FA7B3EE2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A8D9A-9356-409B-8C96-F1879E750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D7A79-B718-4632-A7AB-3C0552FE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08F820-2F01-4F23-BBDD-90D724618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4C7B41-BEF0-4FC7-841B-B95E0217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6B13D0-84EE-4124-8E3E-4942972E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59681-3449-4729-A882-0EAECE22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3EE34-8A0C-42AD-B3EF-D502C735B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AFF564-B707-481C-8145-2B5C1341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3476D7-18FA-4FBB-B116-FB5D8C83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2E54-5738-4B63-B71A-67073616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913DB6-AFB2-4E07-8357-2FB4FD57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3DFEE-1E06-41AB-8EB7-3189239C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5C098D-4767-4B3D-918A-681B7A57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473F4E-7E5C-4951-B3F8-7C4D97FC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AB1B6-F5C3-4A08-BA7F-719113CB2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C597C-0D74-40F2-BB7A-3AB39B5E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AF1DE-53AC-4FBF-BF49-0DD9DC04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5C605-19C5-4B6D-82A5-9846E165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F69D7-1C70-4786-BB70-69F436E74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7E434-C055-4915-A215-168D281E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7E6B-6B0F-4597-BF23-EB9200A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4C6176-D477-4DDE-A65B-1486C86F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08C73A-D386-41AA-AAA4-91CC0463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5E9F1-2669-4A5E-BEE1-F6EFD309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4DDC6-BBA9-40AF-BD41-EA4F44A9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5905B6-4968-4557-B5B6-BE0E4FF9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DE4325-7DFC-4D05-9440-0D48BAB8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F80E8-470E-4B6C-99AF-FAFB7666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94DF1-166F-471A-B494-776C2658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7F4ED5-FA6F-42F5-96BC-FB491070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CA59E-5861-4088-B003-2FB2775F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FC5F-C251-4A1C-B07D-123A2C74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CFD598-2CEF-4ADA-A2DD-55250400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CF0DC-899F-4B60-8334-7F59E5E97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96FE9F-C0DE-4BBD-9587-B1061CC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7AF047-500B-49A5-99D1-C9B5998F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F3170E-9EE7-44B6-AAD7-C055E489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2928B9-B67E-4DA8-B358-1F864EEA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AC94B-50DE-468C-BB88-B53113C1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212F1-3C48-40B3-9DF6-21CA22D1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1E9012-6569-4356-B222-A37C2DB7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CFF635-584F-409F-B77B-D45BA347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6988-C363-4CC6-B1F8-9EA7C3F8C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35DDD-531C-4D34-9A98-F2C32A7C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04C6F8-E3D6-46A5-984C-568D3440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BB8EC-F060-4CB5-B92B-74E9EFB8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BF521-72DE-4DBC-8D38-2A8F4F0E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149F26-4B89-474E-AD8A-730CE3A7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69CCA1-7591-4D76-A6E6-9580F9FA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9EF33C-6357-40E7-8F97-1886B3BE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2C68B-52F7-4AC3-8BE0-8E9C686D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DE8005-1622-4212-A1F6-720B1C81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AA41D9-D0E5-40A8-99D6-B8B5C2607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04EC-EA14-48E9-9C77-808D31C7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4E7F1-F97F-46DA-A3CF-AA4FBC0D8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47919-9B0C-4A35-969C-5B5B0DEA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D9D14-2AA6-481A-95A4-ABA37A8C6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6F1FB-2E30-4A28-B1F5-C4B95D4F2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A97EF5-400F-404E-AB40-8A4C8DFA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42EC7-BCF7-4D85-8A18-C3995FD8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CC32F-3F15-4B93-893D-36C8C8B95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38CE9B-73E9-44EE-A8AA-657F73A7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5724A-2A90-43A1-998F-BB5F4027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B2604B-3809-4F10-8E60-5A4C6B48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2BB7-E791-43DD-B3C1-0B9AA24A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CFE275-638A-4913-AEAB-D3E6E6C7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AF4B8-8DB6-4B72-BCF7-F181CEEF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B0C461-CE70-4094-AE66-68A69E319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C069A3-9451-43CC-8915-F6843A7BC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F19125-C126-42E8-AA8C-59219E0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493559-3156-4972-983A-00079A4E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F82939-B486-4652-B863-05C75434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974658-E82A-4CF4-B6B3-BF8E35009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A9BFD-A6CE-4E6D-A022-82CB3CDDB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4D0C05-8517-420B-A028-CFEA6CF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ED1-CF16-4CDD-B5CD-5F255EDD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4FE1-9330-4236-BF2E-B9F35761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5D7E9-34EC-4944-B778-07F71B4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CB135-C21D-4007-B0C1-A13ED135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0EA790-EBF7-4691-AAA7-BA791667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6AA9C2-2C5A-4AAE-9FB4-2DD5E71A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39065D-E0B0-4835-BA1A-E87AD938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B0D492-3F8B-4FE3-83C8-37A452BB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22F145-7A45-4EE9-9F1E-E7F89980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6C4E50-F250-4D77-B94A-D343E040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EA35A3-B13F-4B0E-8904-7890A03A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55ABD4-ED30-40AB-BE10-ABF9BFD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3E60-CA51-4A4B-AC39-E66B79D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77A11-3D83-4D23-BB52-45DC3332B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4036F-7C4E-4775-B601-D6091F69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02A73E-FB99-445C-A54C-BE084B4C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8A9B62-675F-4CE4-9A69-43DAE440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DD87EA-7BEC-49EB-A9A3-E4873665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BC34C-320F-44B6-9E57-7DCDEBE7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D55B9-A72E-43DE-A9D6-FE3B72FA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EC584-F29D-4094-BBC3-D1CB57B44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579616-5725-4861-8BC2-4FBE8AC74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8170AD-152D-4AAD-A750-76C1139F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2A16-344F-422F-84F9-95E92F2A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902A78-9ACD-41B9-B6A0-8ECC91B5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9E9B67-9852-4E8C-A5D5-AF868CC6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B40C60-3C21-44D6-92AE-2C32F691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561D20-FEF7-4998-B777-3F1F780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74D9A2-1017-4496-84CD-4A7B317A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4C2924-E9FB-4F9A-9ECE-7115F50B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9201D0-6A7E-408D-AFB9-FD0436B2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247659-B489-4448-882E-95CBE739E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82DDA-24AC-44A5-B4B9-DFC66F0B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31D74F-C0BC-43BF-A979-26722E07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BDAF-A0DF-48D1-9B1B-4C17AA40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F1AB37-9E4B-46C9-957C-75993EF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C3D6CE-F8C1-4420-B0F6-7E6196805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A18135-1A0A-443D-8A08-AF7097E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984531-4754-4B5E-A61C-15A98281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2309F-3170-4931-935B-B5DE2FCD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005287-2BB0-498A-9B52-9B0D459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42921C-0F91-47FD-BE4F-E61230FC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4D2F3-9A88-4A48-A836-F354F6C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F12B17-8393-4F1A-957F-930DEB79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581DB0-E72F-437F-9539-8F5BD197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9764-E1C5-4D11-9AAB-E149A6DE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728F3-FFC4-4C0A-9872-A4ED3941E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45A66F-7711-4DE4-B9C3-E6221ED2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818CBE-8A94-4866-BE68-5F3B0380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C1E07-72EC-4F51-82EA-9C67A4C5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C55E47-BA81-45E0-8DEA-724928F2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45F587-0772-422E-8726-4F60778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BEF32-FA1F-449A-B45B-8069905E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B3EE21-A413-4E90-9A68-5A99A3C3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424B2A-7C8D-4CA4-94EB-7723A169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93EEFD-E6E5-4C87-B072-D7225741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7117C-E943-4A77-A457-E127D7C07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89CF9-31BB-4551-82D7-0E36E00F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E23ABA-D157-4BF7-94D9-1F8DF9B6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E4670-48AA-4F08-BEC0-C0ED7C2F2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1913C3-96BC-418A-8168-C9B5CC936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A7D579-3A7B-4F56-B584-D4910B2B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18C226-87F4-4200-8F72-FA5A70E9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4E86B3-EFBE-4867-98BB-034DC51E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F50D1-DF35-4C4D-82AB-4F753504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871B88-BC9A-49C6-A6ED-84A40F5A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EFF588-2CAB-4B53-B071-DF86A1B2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5FAAD-A006-4553-AA53-BB396842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5742D2-9BBD-4E89-926F-E844091D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B63140-B470-4F69-B641-661B217E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2CBBB5-9E25-41E9-B47C-76894716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55E424-2979-448A-99DF-AB6C2253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737F2A-4553-40CA-AD43-6082E96A4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778031-8321-4E1B-83A6-44BD56D34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077F537-3D03-4D53-99AD-AC103780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386FC6-2D9F-4BEF-B37E-59B0F5BD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519D90-F834-4768-808F-E17C2648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5C8D92-BC01-4E90-AC36-08C1BBC7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350FC-821F-4347-9E78-495C037CF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2041B-55B8-4E42-A26D-9796BD77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AAE824-1DEC-48CE-AC7B-E4D45BE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99E434-EF05-4F8E-993C-1CE99165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EDE898-78E7-4C43-B77B-AB0A3C9E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E1714B-88C2-4C16-8857-7CFDFEF8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7585D5-0EEE-44A6-924A-014921A1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05CEE7-2414-4AFF-83A6-98652F8F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58ECB-0DFE-4CC0-B3CE-5CABCC8F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1346-9AB7-4BB9-99A5-0152742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E29-0E48-4AF5-BC41-822EB222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A72A1-4F3C-4363-B563-2BF9045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07AD3-58B0-478C-8AEB-FA1DB748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74A6F-98A7-4A06-9DE8-BF9A91F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BEB2-EDC2-4EC9-8D26-9B77A8E7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90D1-E49B-42B6-9731-A8EAC5F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25C03-8F76-4EBA-8FC6-485B205D9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88D19-2962-45CE-9D4E-75598885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DD49-0F7B-464E-B194-E005CDAD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CBD25-F2D6-4582-BA06-9D6D21B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89B62-F92F-4312-ADDA-4A9A9AA7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545-956E-4622-8167-83FC44D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AC93-DAB0-48C4-B778-F9D127CA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5029D-7C41-49C9-8DFA-8A3DD9C5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47996-C278-4F5B-90BC-AD0CED89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54E9-D84D-4231-9F77-8A9654C1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A86AB-ED36-4C26-A0D8-D6B6750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B371D-C530-498E-9AEC-DE88230F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27DB7-8039-4EB7-9DF5-CE561E9E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12B9C-AD1C-4F15-A735-40622FB5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495D-1C02-4B7E-B482-B3222BA45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C1F5C-9137-4B2E-9C1B-320C4E4A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BF6-50AE-4712-95BE-E9136545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5BF9-424F-423E-B7FC-AAA1C3D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5ECA-CBD1-4E7C-8C70-AA0A46DE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96039-4EA2-42F3-AC65-1109102E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71B03-5AFE-4CA9-8EB2-42A318EE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217C6-649C-491B-B132-6297FEC6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24AF4-1826-41CC-A310-3DA30F6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AB2E1-3B4A-4E3E-A823-06563425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B230F-9BD3-414E-AB21-6595DC9D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9487F-4385-4631-9BF5-1DB19C0BE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5FD89-49B9-4E1D-AFCD-29A776021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EE5-5C15-4AFA-9788-ECF28748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FF04-8B28-45F7-88D7-9742F406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B151B-B070-49CA-A3A7-E2966CD5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76B2F-1DEF-4C54-B6C5-73EBEF7F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25C98-6547-4E03-9A43-2FE91A521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A5792-F51F-49A5-A578-1B631A7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E2BDA-789F-4D0F-9CC1-F5CDFE94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45744-1F42-49D8-AF80-AB52F84C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D0B7-8C16-45CF-B6E5-535623DC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F65C3-0FAD-4A1C-8929-B053B3E5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26824-4E43-47CD-8424-E9445C2A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6A3-2618-4EDB-AAB0-EF3F0889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FCC11-AB53-4F94-9DB5-1FF87EA1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DF5A9-73A5-4EAE-9767-2001558E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1A533-603A-445D-88E5-0E5366A29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AF510-10A8-4483-8A99-550C069C1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38029-DE69-4FE0-B1FE-C333EEB8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B525DA-4757-40BA-9B5A-FD33A03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52D2C-F8B0-4AD5-B749-E46E7A12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C6FD2-DDA5-4C34-A922-1ACEDD5D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A68A6-0C23-4FCE-BF99-1374315F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10B4D-28A2-40FE-90D8-17AE2D30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4C89-9464-4E35-BFC2-470CC88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591BB-A4B2-4660-BC9C-AA97BC3D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62361-1069-4BE6-AB92-B6613C8E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FB7D3-9AAD-4A41-81C9-3ED1C840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A6FA-CF1B-4892-975D-33696E9CB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2297-410B-41B0-B6D0-1D159FB7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287D0-FE88-4D07-A5FE-33BDB2F5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F2790-C66D-437F-9DE2-952DBAAB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58EB2-34B9-4D27-93D1-8FB09038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42E91-82BD-457D-A708-366C0C67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9FDCF6-12D4-45D4-B29F-EF9D44DD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6E0C-CAEC-43D6-AA58-8C554450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AFD1D-6552-4C10-8BCC-FBAD43E5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5F572-3F05-44A2-9BE5-7D1FEC69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2A36A-1EDF-47E9-8E40-C2E74F0B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D09A5-EB7B-4359-A19C-0D5D3F8B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2F53B-525F-4192-99B5-0EF6122FA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23915-C8A8-4B64-A755-2976C7CB9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1C6C7-2B6E-4337-88FF-5E94321B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8D3490-20A5-4009-AA82-6231C09E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12244-DD20-4B0A-9677-4425876F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66EA6-2B23-4273-AB19-3C884892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F7B1-E03F-43BB-BBA5-F21FD6C6E0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2216A-85E9-45D1-A827-067B6F4823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565A-C317-409E-8712-329BB99A8A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60FC-78CE-449E-9DBF-6529FFFCA7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4D10-5B6A-4117-90AD-84CA393BE8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FDA-4563-425C-9C7F-21B7612EB9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EAD4-31EE-490B-AE48-12C316E7B0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F15A-C035-4E80-9431-1D81BEA4EE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3C1E-AF83-433B-9B13-53F6A85868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1E22-15A0-415E-8604-A77C67448F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5C7B7-A77A-456C-B4B8-6E0353E3C6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2DBC-DE79-41AF-AEC1-75563BED5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74C3-DBB1-4A9F-903F-3DD17A42C1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6C18-B47A-4539-B35E-B39D2F09AB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356C-A67E-412F-9B24-3AFA828ECD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D8B8-28C2-4F8A-AFDF-23357FE9C4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AEACE-239D-416B-B04E-1944C067F3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DDC0-7031-4F52-A689-98CD17308B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E6DCF-8963-4012-9F50-CBB95DD55E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8A85-14C1-4530-BF10-45F24861C8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029F-2C19-4CA6-98A0-BB36495277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884-7484-45F0-A48C-077A73B5A7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4B1BB-7E94-44D1-B3AE-1F56425E3C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A3117-A3AF-4E32-8A30-1196625439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5DB6A-7268-4408-92CA-56449D6B26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E01F-5F07-4CC7-A688-C3BF0D2990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7DCB-DDD3-4E3A-874F-A110E75ABF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9D6C-2055-45ED-8410-296C9D7DD6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9B51-5935-4A96-B2B5-7B6D184EC9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BCBC-3955-4357-B0AB-AA3B0D52E5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8D1F-3533-4383-9782-3C9949536F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662-D2F7-4F74-A46F-D32814A196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FDBE-D228-4782-B6EA-6056611FDB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A00-0302-4056-847B-9300F7B8F8B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840B-465B-48DD-B6A5-C8D65E3C6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CB03-6FEE-45DD-BC94-6A6E05683D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759E-AF31-405A-BFB3-3880B61EE1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8A6A-2FB1-44EA-B9BE-517D9D5153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30A0-8844-4286-BC5D-FEA2D5E95E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36D6-FD9C-43B4-BACF-381554D10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1867-368E-49AC-A5F0-C6023D4E1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0F37-43B7-4685-8805-A667907AA8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361800" y="2962440"/>
            <a:ext cx="84204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847800"/>
            <a:ext cx="8791920" cy="5762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2843280" y="465300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1476360" y="5935680"/>
            <a:ext cx="1295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3780000" y="4508640"/>
            <a:ext cx="287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3780000" y="5157720"/>
            <a:ext cx="2879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90680" y="911160"/>
            <a:ext cx="8162640" cy="558180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7172" descr=""/>
          <p:cNvPicPr/>
          <p:nvPr/>
        </p:nvPicPr>
        <p:blipFill>
          <a:blip r:embed="rId2"/>
          <a:stretch/>
        </p:blipFill>
        <p:spPr>
          <a:xfrm>
            <a:off x="896760" y="1254240"/>
            <a:ext cx="4467240" cy="250488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7173" descr=""/>
          <p:cNvPicPr/>
          <p:nvPr/>
        </p:nvPicPr>
        <p:blipFill>
          <a:blip r:embed="rId3"/>
          <a:stretch/>
        </p:blipFill>
        <p:spPr>
          <a:xfrm>
            <a:off x="755640" y="4191120"/>
            <a:ext cx="3114720" cy="2571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5435640" y="180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5292720" y="249228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6"/>
          <a:stretch/>
        </p:blipFill>
        <p:spPr>
          <a:xfrm>
            <a:off x="3994200" y="485460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7"/>
          <a:stretch/>
        </p:blipFill>
        <p:spPr>
          <a:xfrm>
            <a:off x="3851280" y="55450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219240" y="804960"/>
            <a:ext cx="8705520" cy="52480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2"/>
          <a:stretch/>
        </p:blipFill>
        <p:spPr>
          <a:xfrm>
            <a:off x="3419640" y="52862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3"/>
          <a:stretch/>
        </p:blipFill>
        <p:spPr>
          <a:xfrm>
            <a:off x="4572000" y="530064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4"/>
          <a:stretch/>
        </p:blipFill>
        <p:spPr>
          <a:xfrm>
            <a:off x="5767560" y="5300640"/>
            <a:ext cx="118080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5"/>
          <a:stretch/>
        </p:blipFill>
        <p:spPr>
          <a:xfrm>
            <a:off x="7093080" y="52722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228600" y="890640"/>
            <a:ext cx="8686800" cy="50767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417672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900000" y="4076640"/>
            <a:ext cx="4176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900000" y="4724280"/>
            <a:ext cx="4824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63400" y="174600"/>
            <a:ext cx="7602840" cy="650880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3384360" cy="10083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258920" y="2997360"/>
            <a:ext cx="3384360" cy="1008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187280" y="4076640"/>
            <a:ext cx="7129800" cy="1008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4284720" y="57913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0246" descr=""/>
          <p:cNvPicPr/>
          <p:nvPr/>
        </p:nvPicPr>
        <p:blipFill>
          <a:blip r:embed="rId6"/>
          <a:stretch/>
        </p:blipFill>
        <p:spPr>
          <a:xfrm>
            <a:off x="4775040" y="1738440"/>
            <a:ext cx="354204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76320" y="895320"/>
            <a:ext cx="8991360" cy="50673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755640" y="3673440"/>
            <a:ext cx="446400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71640" y="4292640"/>
            <a:ext cx="44640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676440" y="1023840"/>
            <a:ext cx="7791120" cy="4810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18728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118728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图片 1" descr=""/>
          <p:cNvPicPr/>
          <p:nvPr/>
        </p:nvPicPr>
        <p:blipFill>
          <a:blip r:embed="rId1"/>
          <a:stretch/>
        </p:blipFill>
        <p:spPr>
          <a:xfrm>
            <a:off x="142920" y="1461960"/>
            <a:ext cx="8858160" cy="393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826920" y="3659040"/>
            <a:ext cx="43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900000" y="4292640"/>
            <a:ext cx="43214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5:2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